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FAE-9373-49C7-B6AE-B335CBC2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D38-1307-4788-8FC3-F8D94D8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9D2-4D82-45CE-985C-73CEF699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87B-F611-415A-948A-A9A4F106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D1B-8FF3-4B68-A7A6-29A57DA7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87C-B17B-4D0B-8B5D-9D3AAA3E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525-FE88-40DA-8298-F0376566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F67-025D-482B-9EEE-5837C30F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003-2BED-4105-8559-45A484AA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70E-D751-437A-A1E4-3C1CC42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AAA-9955-4B77-A968-5CFB58F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419-E169-44C9-96C4-47841CB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6CC5-61C0-4CC2-A1C3-9B687319BC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hyperlink" Target="file:///Transport%20vokrug%20nas.pptx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image" Target="../media/image7.png"/><Relationship Id="rId4" Type="http://schemas.openxmlformats.org/officeDocument/2006/relationships/slide" Target="slide3.xml"/><Relationship Id="rId5" Type="http://schemas.openxmlformats.org/officeDocument/2006/relationships/image" Target="../media/image8.png"/><Relationship Id="rId6" Type="http://schemas.openxmlformats.org/officeDocument/2006/relationships/slide" Target="slide4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4150587 (1)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8360" y="4437000"/>
            <a:ext cx="2305080" cy="151452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0" descr="helicopter-art-for-preschoolers.png"/>
          <p:cNvPicPr/>
          <p:nvPr/>
        </p:nvPicPr>
        <p:blipFill>
          <a:blip r:embed="rId3"/>
          <a:stretch/>
        </p:blipFill>
        <p:spPr>
          <a:xfrm>
            <a:off x="250920" y="3068640"/>
            <a:ext cx="2160360" cy="1450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F:\звуки транспорта\жд\poezd06.png"/>
          <p:cNvPicPr/>
          <p:nvPr/>
        </p:nvPicPr>
        <p:blipFill>
          <a:blip r:embed="rId4"/>
          <a:stretch/>
        </p:blipFill>
        <p:spPr>
          <a:xfrm>
            <a:off x="324000" y="620640"/>
            <a:ext cx="2063520" cy="1265400"/>
          </a:xfrm>
          <a:prstGeom prst="rect">
            <a:avLst/>
          </a:prstGeom>
          <a:ln w="0">
            <a:noFill/>
          </a:ln>
        </p:spPr>
      </p:pic>
      <p:pic>
        <p:nvPicPr>
          <p:cNvPr id="44" name="ко" descr="5106469-thumb.png"/>
          <p:cNvPicPr/>
          <p:nvPr/>
        </p:nvPicPr>
        <p:blipFill>
          <a:blip r:embed="rId5"/>
          <a:stretch/>
        </p:blipFill>
        <p:spPr>
          <a:xfrm>
            <a:off x="1979640" y="4581360"/>
            <a:ext cx="1944720" cy="164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2276280"/>
            <a:ext cx="684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Едет, плавает, летает…</a:t>
            </a:r>
            <a:br>
              <a:rPr sz="4000"/>
            </a:b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Интерактивная игра для детей 5-7 лет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19640" y="6426000"/>
            <a:ext cx="3673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Автор: Хорошилова Татьяна Иванов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МАДОУ ДС №73 «Мишут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Стрелка вправо 10">
            <a:hlinkClick r:id="rId6" action="ppaction://hlinksldjump"/>
          </p:cNvPr>
          <p:cNvSpPr/>
          <p:nvPr/>
        </p:nvSpPr>
        <p:spPr>
          <a:xfrm>
            <a:off x="7667640" y="5950080"/>
            <a:ext cx="1150920" cy="503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Рисунок 13" descr="C:\Users\Вася\Desktop\gohome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445600" y="189000"/>
            <a:ext cx="69840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991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йди нуж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Нашивка 2">
            <a:hlinkClick r:id="" action="ppaction://hlinkshowjump?jump=nextslide"/>
          </p:cNvPr>
          <p:cNvSpPr/>
          <p:nvPr/>
        </p:nvSpPr>
        <p:spPr>
          <a:xfrm>
            <a:off x="6443640" y="6308640"/>
            <a:ext cx="2305080" cy="36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lnTo>
                  <a:pt x="1696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Капля 18">
            <a:hlinkClick r:id="rId1" action="ppaction://hlinksldjump"/>
          </p:cNvPr>
          <p:cNvSpPr/>
          <p:nvPr/>
        </p:nvSpPr>
        <p:spPr>
          <a:xfrm rot="7926000">
            <a:off x="6108120" y="2252520"/>
            <a:ext cx="1478160" cy="1382760"/>
          </a:xfrm>
          <a:custGeom>
            <a:avLst/>
            <a:gdLst>
              <a:gd name="textAreaLeft" fmla="*/ 216360 w 1478160"/>
              <a:gd name="textAreaRight" fmla="*/ 1261800 w 1478160"/>
              <a:gd name="textAreaTop" fmla="*/ 202320 h 1382760"/>
              <a:gd name="textAreaBottom" fmla="*/ 1180440 h 1382760"/>
            </a:gdLst>
            <a:ahLst/>
            <a:rect l="textAreaLeft" t="textAreaTop" r="textAreaRight" b="textAreaBottom"/>
            <a:pathLst>
              <a:path w="1477962" h="1382713">
                <a:moveTo>
                  <a:pt x="0" y="691357"/>
                </a:moveTo>
                <a:lnTo>
                  <a:pt x="0" y="691357"/>
                </a:lnTo>
                <a:arcTo wR="738981" hR="691357" stAng="-10799995" swAng="5400000"/>
                <a:lnTo>
                  <a:pt x="1279534" y="0"/>
                </a:lnTo>
                <a:lnTo>
                  <a:pt x="1820088" y="-320077"/>
                </a:lnTo>
                <a:lnTo>
                  <a:pt x="1477962" y="438498"/>
                </a:lnTo>
                <a:arcTo wR="0" hR="252859" stAng="0" swAng="0"/>
                <a:lnTo>
                  <a:pt x="1369741" y="1281467"/>
                </a:lnTo>
                <a:arcTo wR="-369491" hR="345679" stAng="2585580" swAng="10800000"/>
                <a:close/>
              </a:path>
            </a:pathLst>
          </a:custGeom>
          <a:solidFill>
            <a:srgbClr val="add6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" name="Группа 14"/>
          <p:cNvGrpSpPr/>
          <p:nvPr/>
        </p:nvGrpSpPr>
        <p:grpSpPr>
          <a:xfrm>
            <a:off x="1404000" y="1989000"/>
            <a:ext cx="2016000" cy="2022840"/>
            <a:chOff x="1404000" y="1989000"/>
            <a:chExt cx="2016000" cy="2022840"/>
          </a:xfrm>
        </p:grpSpPr>
        <p:sp>
          <p:nvSpPr>
            <p:cNvPr id="53" name="Капля 17"/>
            <p:cNvSpPr/>
            <p:nvPr/>
          </p:nvSpPr>
          <p:spPr>
            <a:xfrm rot="7926000">
              <a:off x="1673640" y="2308680"/>
              <a:ext cx="1476360" cy="1383120"/>
            </a:xfrm>
            <a:custGeom>
              <a:avLst/>
              <a:gdLst>
                <a:gd name="textAreaLeft" fmla="*/ 216000 w 1476360"/>
                <a:gd name="textAreaRight" fmla="*/ 1260360 w 1476360"/>
                <a:gd name="textAreaTop" fmla="*/ 202320 h 1383120"/>
                <a:gd name="textAreaBottom" fmla="*/ 1180800 h 1383120"/>
              </a:gdLst>
              <a:ahLst/>
              <a:rect l="textAreaLeft" t="textAreaTop" r="textAreaRight" b="textAreaBottom"/>
              <a:pathLst>
                <a:path w="1476375" h="1382729">
                  <a:moveTo>
                    <a:pt x="0" y="691365"/>
                  </a:moveTo>
                  <a:lnTo>
                    <a:pt x="0" y="691365"/>
                  </a:lnTo>
                  <a:arcTo wR="738188" hR="691365" stAng="-10799995" swAng="5400000"/>
                  <a:lnTo>
                    <a:pt x="1278160" y="0"/>
                  </a:lnTo>
                  <a:lnTo>
                    <a:pt x="1818133" y="-320081"/>
                  </a:lnTo>
                  <a:lnTo>
                    <a:pt x="1476375" y="438504"/>
                  </a:lnTo>
                  <a:arcTo wR="0" hR="252862" stAng="0" swAng="0"/>
                  <a:lnTo>
                    <a:pt x="1368270" y="1281482"/>
                  </a:lnTo>
                  <a:arcTo wR="-369094" hR="345683" stAng="2587442" swAng="10800000"/>
                  <a:close/>
                </a:path>
              </a:pathLst>
            </a:custGeom>
            <a:solidFill>
              <a:srgbClr val="add6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4" name="Picture 14" descr="C:\Users\XTI\Desktop\Photo from album _Самолёты и вертолёты_ on Yandex_Disk.png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09640" y="2493000"/>
              <a:ext cx="1287000" cy="93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8" descr="C:\Users\XTI\Desktop\ebby65 - Átlátszó Óvodás Jelek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03880" y="2492280"/>
            <a:ext cx="1181160" cy="88272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16"/>
          <p:cNvGrpSpPr/>
          <p:nvPr/>
        </p:nvGrpSpPr>
        <p:grpSpPr>
          <a:xfrm>
            <a:off x="3678120" y="1932120"/>
            <a:ext cx="2017080" cy="2023920"/>
            <a:chOff x="3678120" y="1932120"/>
            <a:chExt cx="2017080" cy="2023920"/>
          </a:xfrm>
        </p:grpSpPr>
        <p:sp>
          <p:nvSpPr>
            <p:cNvPr id="57" name="Капля 15"/>
            <p:cNvSpPr/>
            <p:nvPr/>
          </p:nvSpPr>
          <p:spPr>
            <a:xfrm rot="7926000">
              <a:off x="3947400" y="2252520"/>
              <a:ext cx="1478160" cy="1382760"/>
            </a:xfrm>
            <a:custGeom>
              <a:avLst/>
              <a:gdLst>
                <a:gd name="textAreaLeft" fmla="*/ 216360 w 1478160"/>
                <a:gd name="textAreaRight" fmla="*/ 1261800 w 1478160"/>
                <a:gd name="textAreaTop" fmla="*/ 202320 h 1382760"/>
                <a:gd name="textAreaBottom" fmla="*/ 1180440 h 1382760"/>
              </a:gdLst>
              <a:ahLst/>
              <a:rect l="textAreaLeft" t="textAreaTop" r="textAreaRight" b="textAreaBottom"/>
              <a:pathLst>
                <a:path w="1477963" h="1382712">
                  <a:moveTo>
                    <a:pt x="0" y="691356"/>
                  </a:moveTo>
                  <a:lnTo>
                    <a:pt x="0" y="691356"/>
                  </a:lnTo>
                  <a:arcTo wR="738982" hR="691356" stAng="-10799995" swAng="5400000"/>
                  <a:lnTo>
                    <a:pt x="1279535" y="0"/>
                  </a:lnTo>
                  <a:lnTo>
                    <a:pt x="1820089" y="-320077"/>
                  </a:lnTo>
                  <a:lnTo>
                    <a:pt x="1477963" y="438498"/>
                  </a:lnTo>
                  <a:arcTo wR="0" hR="252859" stAng="0" swAng="0"/>
                  <a:lnTo>
                    <a:pt x="1369742" y="1281465"/>
                  </a:lnTo>
                  <a:arcTo wR="-369491" hR="345678" stAng="2585576" swAng="10800000"/>
                  <a:close/>
                </a:path>
              </a:pathLst>
            </a:custGeom>
            <a:solidFill>
              <a:srgbClr val="add6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58" name="Picture 12" descr="C:\Users\XTI\Desktop\икт оэр\Vector - Passenger cruise ship over white.jpg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139640" y="2421000"/>
              <a:ext cx="1080360" cy="83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F:\звуки транспорта\doroga.JPG"/>
          <p:cNvPicPr/>
          <p:nvPr/>
        </p:nvPicPr>
        <p:blipFill>
          <a:blip r:embed="rId1"/>
          <a:stretch/>
        </p:blipFill>
        <p:spPr>
          <a:xfrm>
            <a:off x="3151080" y="334800"/>
            <a:ext cx="5711760" cy="4329360"/>
          </a:xfrm>
          <a:prstGeom prst="rect">
            <a:avLst/>
          </a:prstGeom>
          <a:ln w="0">
            <a:noFill/>
          </a:ln>
        </p:spPr>
      </p:pic>
      <p:pic>
        <p:nvPicPr>
          <p:cNvPr id="60" name="1м" descr="4150587 (1).png"/>
          <p:cNvPicPr/>
          <p:nvPr/>
        </p:nvPicPr>
        <p:blipFill>
          <a:blip r:embed="rId2"/>
          <a:stretch/>
        </p:blipFill>
        <p:spPr>
          <a:xfrm>
            <a:off x="6588000" y="5248440"/>
            <a:ext cx="1729080" cy="1134720"/>
          </a:xfrm>
          <a:prstGeom prst="rect">
            <a:avLst/>
          </a:prstGeom>
          <a:ln w="0">
            <a:noFill/>
          </a:ln>
        </p:spPr>
      </p:pic>
      <p:pic>
        <p:nvPicPr>
          <p:cNvPr id="61" name="ве1" descr="helicopter-art-for-preschoolers.png"/>
          <p:cNvPicPr/>
          <p:nvPr/>
        </p:nvPicPr>
        <p:blipFill>
          <a:blip r:embed="rId3"/>
          <a:stretch/>
        </p:blipFill>
        <p:spPr>
          <a:xfrm>
            <a:off x="4427640" y="4894200"/>
            <a:ext cx="2016000" cy="1354320"/>
          </a:xfrm>
          <a:prstGeom prst="rect">
            <a:avLst/>
          </a:prstGeom>
          <a:ln w="0">
            <a:noFill/>
          </a:ln>
        </p:spPr>
      </p:pic>
      <p:pic>
        <p:nvPicPr>
          <p:cNvPr id="62" name="п1" descr="I:\карт\JNESS_POLICE_CAR.png"/>
          <p:cNvPicPr/>
          <p:nvPr/>
        </p:nvPicPr>
        <p:blipFill>
          <a:blip r:embed="rId4"/>
          <a:stretch/>
        </p:blipFill>
        <p:spPr>
          <a:xfrm>
            <a:off x="1692360" y="4989600"/>
            <a:ext cx="1511280" cy="1015920"/>
          </a:xfrm>
          <a:prstGeom prst="rect">
            <a:avLst/>
          </a:prstGeom>
          <a:ln w="0">
            <a:noFill/>
          </a:ln>
        </p:spPr>
      </p:pic>
      <p:pic>
        <p:nvPicPr>
          <p:cNvPr id="63" name="ка2" descr="5106469-thumb.png"/>
          <p:cNvPicPr/>
          <p:nvPr/>
        </p:nvPicPr>
        <p:blipFill>
          <a:blip r:embed="rId5"/>
          <a:stretch/>
        </p:blipFill>
        <p:spPr>
          <a:xfrm>
            <a:off x="755640" y="1052640"/>
            <a:ext cx="1295280" cy="1093680"/>
          </a:xfrm>
          <a:prstGeom prst="rect">
            <a:avLst/>
          </a:prstGeom>
          <a:ln w="0">
            <a:noFill/>
          </a:ln>
        </p:spPr>
      </p:pic>
      <p:pic>
        <p:nvPicPr>
          <p:cNvPr id="64" name="ц1" descr="I:\карт\69569_Bez_imeni_14.png"/>
          <p:cNvPicPr/>
          <p:nvPr/>
        </p:nvPicPr>
        <p:blipFill>
          <a:blip r:embed="rId6"/>
          <a:stretch/>
        </p:blipFill>
        <p:spPr>
          <a:xfrm>
            <a:off x="611280" y="2684520"/>
            <a:ext cx="1728720" cy="1131840"/>
          </a:xfrm>
          <a:prstGeom prst="rect">
            <a:avLst/>
          </a:prstGeom>
          <a:ln w="0">
            <a:noFill/>
          </a:ln>
        </p:spPr>
      </p:pic>
      <p:sp>
        <p:nvSpPr>
          <p:cNvPr id="65" name="Нашивка 10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7" y="0"/>
                </a:lnTo>
                <a:lnTo>
                  <a:pt x="21600" y="10800"/>
                </a:lnTo>
                <a:lnTo>
                  <a:pt x="19877" y="21600"/>
                </a:lnTo>
                <a:lnTo>
                  <a:pt x="0" y="21600"/>
                </a:lnTo>
                <a:lnTo>
                  <a:pt x="1723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4643280" y="9079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ем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Управляющая кнопка: домой 12"/>
          <p:cNvSpPr/>
          <p:nvPr/>
        </p:nvSpPr>
        <p:spPr>
          <a:xfrm>
            <a:off x="0" y="602136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0.00393 C 0.07882 -0.10589 0.10642 -0.21572 0.15885 -0.25248 C 0.21128 -0.28924 0.32708 -0.19352 0.36632 -0.21734 C 0.40555 -0.24115 0.38993 -0.36601 0.39462 -0.3956 E">
                                      <p:cBhvr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71 0.1519 C -0.12396 0.1163 -0.18003 0.08092 -0.19236 0.03121 C -0.20469 -0.0185 -0.16771 -0.10775 -0.14132 -0.14706 C -0.11493 -0.18636 -0.0533 -0.17896 -0.03385 -0.20486 C -0.01441 -0.23076 -0.02708 -0.28578 -0.0243 -0.30289 E">
                                      <p:cBhvr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61 0.10127 C 0.28611 0.16855 0.47378 0.23607 0.54392 0.23191 C 0.61406 0.22775 0.55139 0.10497 0.51927 0.07607 C 0.48715 0.04717 0.37934 0.0615 0.35139 0.0585 E">
                                      <p:cBhvr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F:\звуки транспорта\akvatoriya-kaspiyskogo-morya.jpg"/>
          <p:cNvPicPr/>
          <p:nvPr/>
        </p:nvPicPr>
        <p:blipFill>
          <a:blip r:embed="rId1"/>
          <a:stretch/>
        </p:blipFill>
        <p:spPr>
          <a:xfrm>
            <a:off x="2577960" y="195120"/>
            <a:ext cx="6158160" cy="4730760"/>
          </a:xfrm>
          <a:prstGeom prst="rect">
            <a:avLst/>
          </a:prstGeom>
          <a:ln w="0">
            <a:noFill/>
          </a:ln>
        </p:spPr>
      </p:pic>
      <p:pic>
        <p:nvPicPr>
          <p:cNvPr id="69" name="ко3" descr="5106469-thumb.png"/>
          <p:cNvPicPr/>
          <p:nvPr/>
        </p:nvPicPr>
        <p:blipFill>
          <a:blip r:embed="rId2"/>
          <a:stretch/>
        </p:blipFill>
        <p:spPr>
          <a:xfrm>
            <a:off x="2124000" y="4869000"/>
            <a:ext cx="187668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в3" descr="helicopter-art-for-preschoolers.png"/>
          <p:cNvPicPr/>
          <p:nvPr/>
        </p:nvPicPr>
        <p:blipFill>
          <a:blip r:embed="rId3"/>
          <a:stretch/>
        </p:blipFill>
        <p:spPr>
          <a:xfrm>
            <a:off x="6912000" y="4941720"/>
            <a:ext cx="2232000" cy="1500480"/>
          </a:xfrm>
          <a:prstGeom prst="rect">
            <a:avLst/>
          </a:prstGeom>
          <a:ln w="0">
            <a:noFill/>
          </a:ln>
        </p:spPr>
      </p:pic>
      <p:pic>
        <p:nvPicPr>
          <p:cNvPr id="71" name="ло3" descr="I:\карт\81085631_4663906_transport.png"/>
          <p:cNvPicPr/>
          <p:nvPr/>
        </p:nvPicPr>
        <p:blipFill>
          <a:blip r:embed="rId4"/>
          <a:stretch/>
        </p:blipFill>
        <p:spPr>
          <a:xfrm>
            <a:off x="395280" y="404640"/>
            <a:ext cx="156384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а3" descr="I:\карт\blue-school-bus-hi.png"/>
          <p:cNvPicPr/>
          <p:nvPr/>
        </p:nvPicPr>
        <p:blipFill>
          <a:blip r:embed="rId5"/>
          <a:stretch/>
        </p:blipFill>
        <p:spPr>
          <a:xfrm>
            <a:off x="250920" y="3141720"/>
            <a:ext cx="200016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тр3" descr="I:\карт\tramvay.png"/>
          <p:cNvPicPr/>
          <p:nvPr/>
        </p:nvPicPr>
        <p:blipFill>
          <a:blip r:embed="rId6"/>
          <a:stretch/>
        </p:blipFill>
        <p:spPr>
          <a:xfrm>
            <a:off x="3851280" y="4618080"/>
            <a:ext cx="2454120" cy="2239920"/>
          </a:xfrm>
          <a:prstGeom prst="rect">
            <a:avLst/>
          </a:prstGeom>
          <a:ln w="0">
            <a:noFill/>
          </a:ln>
        </p:spPr>
      </p:pic>
      <p:sp>
        <p:nvSpPr>
          <p:cNvPr id="74" name="Нашивка 7">
            <a:hlinkClick r:id="" action="ppaction://hlinkshowjump?jump=nextslide"/>
          </p:cNvPr>
          <p:cNvSpPr/>
          <p:nvPr/>
        </p:nvSpPr>
        <p:spPr>
          <a:xfrm>
            <a:off x="6875640" y="6524640"/>
            <a:ext cx="2089080" cy="333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7" y="0"/>
                </a:lnTo>
                <a:lnTo>
                  <a:pt x="21600" y="10800"/>
                </a:lnTo>
                <a:lnTo>
                  <a:pt x="19877" y="21600"/>
                </a:lnTo>
                <a:lnTo>
                  <a:pt x="0" y="21600"/>
                </a:lnTo>
                <a:lnTo>
                  <a:pt x="1723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924360" y="4762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д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Управляющая кнопка: домой 10"/>
          <p:cNvSpPr/>
          <p:nvPr/>
        </p:nvSpPr>
        <p:spPr>
          <a:xfrm>
            <a:off x="0" y="6093000"/>
            <a:ext cx="503280" cy="47592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2841" h="21600">
                <a:moveTo>
                  <a:pt x="0" y="0"/>
                </a:moveTo>
                <a:lnTo>
                  <a:pt x="22841" y="0"/>
                </a:lnTo>
                <a:lnTo>
                  <a:pt x="22841" y="21600"/>
                </a:lnTo>
                <a:lnTo>
                  <a:pt x="0" y="21600"/>
                </a:lnTo>
                <a:close/>
              </a:path>
              <a:path fill="lightenLess" w="22841" h="21600">
                <a:moveTo>
                  <a:pt x="0" y="0"/>
                </a:moveTo>
                <a:lnTo>
                  <a:pt x="22841" y="0"/>
                </a:lnTo>
                <a:lnTo>
                  <a:pt x="21441" y="1400"/>
                </a:lnTo>
                <a:lnTo>
                  <a:pt x="1400" y="1400"/>
                </a:lnTo>
                <a:close/>
              </a:path>
              <a:path fill="darken" w="22841" h="21600">
                <a:moveTo>
                  <a:pt x="22841" y="0"/>
                </a:moveTo>
                <a:lnTo>
                  <a:pt x="22841" y="21600"/>
                </a:lnTo>
                <a:lnTo>
                  <a:pt x="21441" y="20200"/>
                </a:lnTo>
                <a:lnTo>
                  <a:pt x="21441" y="1400"/>
                </a:lnTo>
                <a:close/>
              </a:path>
              <a:path fill="darkenLess" w="22841" h="21600">
                <a:moveTo>
                  <a:pt x="2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" y="20200"/>
                </a:lnTo>
                <a:close/>
              </a:path>
              <a:path fill="lighten" w="2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1" h="21600">
                <a:moveTo>
                  <a:pt x="11420" y="3837"/>
                </a:moveTo>
                <a:lnTo>
                  <a:pt x="13997" y="6448"/>
                </a:ln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lnTo>
                  <a:pt x="18383" y="10800"/>
                </a:lnTo>
                <a:lnTo>
                  <a:pt x="16730" y="10800"/>
                </a:lnTo>
                <a:lnTo>
                  <a:pt x="16730" y="17989"/>
                </a:lnTo>
                <a:lnTo>
                  <a:pt x="6111" y="17989"/>
                </a:lnTo>
                <a:lnTo>
                  <a:pt x="6111" y="10800"/>
                </a:lnTo>
                <a:lnTo>
                  <a:pt x="4457" y="10800"/>
                </a:lnTo>
                <a:close/>
              </a:path>
              <a:path fill="darkenLess" w="22841" h="21600">
                <a:moveTo>
                  <a:pt x="13997" y="6448"/>
                </a:move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close/>
              </a:path>
              <a:path fill="darkenLess" w="22841" h="21600">
                <a:moveTo>
                  <a:pt x="10498" y="14299"/>
                </a:moveTo>
                <a:lnTo>
                  <a:pt x="12343" y="14299"/>
                </a:lnTo>
                <a:lnTo>
                  <a:pt x="12343" y="17989"/>
                </a:lnTo>
                <a:lnTo>
                  <a:pt x="16730" y="17989"/>
                </a:lnTo>
                <a:lnTo>
                  <a:pt x="16730" y="10800"/>
                </a:lnTo>
                <a:lnTo>
                  <a:pt x="6111" y="10800"/>
                </a:lnTo>
                <a:lnTo>
                  <a:pt x="6111" y="17989"/>
                </a:lnTo>
                <a:lnTo>
                  <a:pt x="10498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12139E-006 C 0.16267 -0.11168 0.32552 -0.22289 0.3908 -0.26752 E">
                                      <p:cBhvr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01156E-006 C 0.01128 0.07606 0.02257 0.15236 0.04149 0.22612 C 0.06041 0.29988 0.07326 0.41918 0.11319 0.44231 C 0.15312 0.46543 0.2302 0.40115 0.28107 0.36439 C 0.33194 0.32762 0.396 0.24508 0.41892 0.22127 E">
                                      <p:cBhvr>
                                        <p:cTn id="8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:\звуки транспорта\6009.jpg"/>
          <p:cNvPicPr/>
          <p:nvPr/>
        </p:nvPicPr>
        <p:blipFill>
          <a:blip r:embed="rId1"/>
          <a:stretch/>
        </p:blipFill>
        <p:spPr>
          <a:xfrm>
            <a:off x="3133800" y="195120"/>
            <a:ext cx="5838840" cy="4138920"/>
          </a:xfrm>
          <a:prstGeom prst="rect">
            <a:avLst/>
          </a:prstGeom>
          <a:ln w="0">
            <a:noFill/>
          </a:ln>
        </p:spPr>
      </p:pic>
      <p:pic>
        <p:nvPicPr>
          <p:cNvPr id="78" name="сс" descr="samolet2.png"/>
          <p:cNvPicPr/>
          <p:nvPr/>
        </p:nvPicPr>
        <p:blipFill>
          <a:blip r:embed="rId2"/>
          <a:stretch/>
        </p:blipFill>
        <p:spPr>
          <a:xfrm rot="205800">
            <a:off x="364680" y="750600"/>
            <a:ext cx="1989360" cy="1471680"/>
          </a:xfrm>
          <a:prstGeom prst="rect">
            <a:avLst/>
          </a:prstGeom>
          <a:ln w="0">
            <a:noFill/>
          </a:ln>
        </p:spPr>
      </p:pic>
      <p:pic>
        <p:nvPicPr>
          <p:cNvPr id="79" name="вв" descr="helicopter-art-for-preschoolers.png"/>
          <p:cNvPicPr/>
          <p:nvPr/>
        </p:nvPicPr>
        <p:blipFill>
          <a:blip r:embed="rId3"/>
          <a:stretch/>
        </p:blipFill>
        <p:spPr>
          <a:xfrm>
            <a:off x="6756480" y="4653000"/>
            <a:ext cx="2387520" cy="1603440"/>
          </a:xfrm>
          <a:prstGeom prst="rect">
            <a:avLst/>
          </a:prstGeom>
          <a:ln w="0">
            <a:noFill/>
          </a:ln>
        </p:spPr>
      </p:pic>
      <p:pic>
        <p:nvPicPr>
          <p:cNvPr id="80" name="ш" descr="C:\Users\XTI\Desktop\88d9c5cf986b.png"/>
          <p:cNvPicPr/>
          <p:nvPr/>
        </p:nvPicPr>
        <p:blipFill>
          <a:blip r:embed="rId4"/>
          <a:stretch/>
        </p:blipFill>
        <p:spPr>
          <a:xfrm>
            <a:off x="1692360" y="4581360"/>
            <a:ext cx="2555640" cy="1973520"/>
          </a:xfrm>
          <a:prstGeom prst="rect">
            <a:avLst/>
          </a:prstGeom>
          <a:ln w="0">
            <a:noFill/>
          </a:ln>
        </p:spPr>
      </p:pic>
      <p:pic>
        <p:nvPicPr>
          <p:cNvPr id="81" name="ав" descr="I:\карт\1182.png"/>
          <p:cNvPicPr/>
          <p:nvPr/>
        </p:nvPicPr>
        <p:blipFill>
          <a:blip r:embed="rId5"/>
          <a:stretch/>
        </p:blipFill>
        <p:spPr>
          <a:xfrm>
            <a:off x="4284720" y="4581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82" name="ло3" descr="I:\карт\81085631_4663906_transport.png"/>
          <p:cNvPicPr/>
          <p:nvPr/>
        </p:nvPicPr>
        <p:blipFill>
          <a:blip r:embed="rId6"/>
          <a:stretch/>
        </p:blipFill>
        <p:spPr>
          <a:xfrm>
            <a:off x="684360" y="2492280"/>
            <a:ext cx="1562040" cy="1800360"/>
          </a:xfrm>
          <a:prstGeom prst="rect">
            <a:avLst/>
          </a:prstGeom>
          <a:ln w="0">
            <a:noFill/>
          </a:ln>
        </p:spPr>
      </p:pic>
      <p:sp>
        <p:nvSpPr>
          <p:cNvPr id="83" name="Нашивка 8">
            <a:hlinkClick r:id="" action="ppaction://hlinkshowjump?jump=nextslide"/>
          </p:cNvPr>
          <p:cNvSpPr/>
          <p:nvPr/>
        </p:nvSpPr>
        <p:spPr>
          <a:xfrm>
            <a:off x="6659640" y="6524640"/>
            <a:ext cx="2089080" cy="33336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7" y="0"/>
                </a:lnTo>
                <a:lnTo>
                  <a:pt x="21600" y="10800"/>
                </a:lnTo>
                <a:lnTo>
                  <a:pt x="19877" y="21600"/>
                </a:lnTo>
                <a:lnTo>
                  <a:pt x="0" y="21600"/>
                </a:lnTo>
                <a:lnTo>
                  <a:pt x="1723" y="108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564000" y="33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душ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Управляющая кнопка: домой 10"/>
          <p:cNvSpPr/>
          <p:nvPr/>
        </p:nvSpPr>
        <p:spPr>
          <a:xfrm>
            <a:off x="0" y="6093000"/>
            <a:ext cx="503280" cy="47592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2841" h="21600">
                <a:moveTo>
                  <a:pt x="0" y="0"/>
                </a:moveTo>
                <a:lnTo>
                  <a:pt x="22841" y="0"/>
                </a:lnTo>
                <a:lnTo>
                  <a:pt x="22841" y="21600"/>
                </a:lnTo>
                <a:lnTo>
                  <a:pt x="0" y="21600"/>
                </a:lnTo>
                <a:close/>
              </a:path>
              <a:path fill="lightenLess" w="22841" h="21600">
                <a:moveTo>
                  <a:pt x="0" y="0"/>
                </a:moveTo>
                <a:lnTo>
                  <a:pt x="22841" y="0"/>
                </a:lnTo>
                <a:lnTo>
                  <a:pt x="21441" y="1400"/>
                </a:lnTo>
                <a:lnTo>
                  <a:pt x="1400" y="1400"/>
                </a:lnTo>
                <a:close/>
              </a:path>
              <a:path fill="darken" w="22841" h="21600">
                <a:moveTo>
                  <a:pt x="22841" y="0"/>
                </a:moveTo>
                <a:lnTo>
                  <a:pt x="22841" y="21600"/>
                </a:lnTo>
                <a:lnTo>
                  <a:pt x="21441" y="20200"/>
                </a:lnTo>
                <a:lnTo>
                  <a:pt x="21441" y="1400"/>
                </a:lnTo>
                <a:close/>
              </a:path>
              <a:path fill="darkenLess" w="22841" h="21600">
                <a:moveTo>
                  <a:pt x="2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1" y="20200"/>
                </a:lnTo>
                <a:close/>
              </a:path>
              <a:path fill="lighten" w="2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1" h="21600">
                <a:moveTo>
                  <a:pt x="11420" y="3837"/>
                </a:moveTo>
                <a:lnTo>
                  <a:pt x="13997" y="6448"/>
                </a:ln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lnTo>
                  <a:pt x="18383" y="10800"/>
                </a:lnTo>
                <a:lnTo>
                  <a:pt x="16730" y="10800"/>
                </a:lnTo>
                <a:lnTo>
                  <a:pt x="16730" y="17989"/>
                </a:lnTo>
                <a:lnTo>
                  <a:pt x="6111" y="17989"/>
                </a:lnTo>
                <a:lnTo>
                  <a:pt x="6111" y="10800"/>
                </a:lnTo>
                <a:lnTo>
                  <a:pt x="4457" y="10800"/>
                </a:lnTo>
                <a:close/>
              </a:path>
              <a:path fill="darkenLess" w="22841" h="21600">
                <a:moveTo>
                  <a:pt x="13997" y="6448"/>
                </a:moveTo>
                <a:lnTo>
                  <a:pt x="13997" y="4707"/>
                </a:lnTo>
                <a:lnTo>
                  <a:pt x="15772" y="4707"/>
                </a:lnTo>
                <a:lnTo>
                  <a:pt x="15772" y="8224"/>
                </a:lnTo>
                <a:close/>
              </a:path>
              <a:path fill="darkenLess" w="22841" h="21600">
                <a:moveTo>
                  <a:pt x="10498" y="14299"/>
                </a:moveTo>
                <a:lnTo>
                  <a:pt x="12343" y="14299"/>
                </a:lnTo>
                <a:lnTo>
                  <a:pt x="12343" y="17989"/>
                </a:lnTo>
                <a:lnTo>
                  <a:pt x="16730" y="17989"/>
                </a:lnTo>
                <a:lnTo>
                  <a:pt x="16730" y="10800"/>
                </a:lnTo>
                <a:lnTo>
                  <a:pt x="6111" y="10800"/>
                </a:lnTo>
                <a:lnTo>
                  <a:pt x="6111" y="17989"/>
                </a:lnTo>
                <a:lnTo>
                  <a:pt x="10498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0.05208 C -0.06857 0.06574 -0.07795 0.08056 -0.08871 0.08681 C -0.10017 0.09236 -0.11354 0.09398 -0.12673 0.0956 C -0.1401 0.0963 -0.15052 0.09167 -0.16215 0.08588 C -0.17274 0.08032 -0.18402 0.07245 -0.1927 0.0581 C -0.20173 0.04537 -0.20781 0.025 -0.21197 0.00394 C -0.21597 -0.01597 -0.2177 -0.03866 -0.21788 -0.06088 C -0.21753 -0.08356 -0.21545 -0.10579 -0.2118 -0.12616 C -0.20763 -0.14792 -0.20052 -0.16759 -0.19131 -0.1831 C -0.18281 -0.19861 -0.17239 -0.21204 -0.16093 -0.21759 C -0.14982 -0.225 -0.13593 -0.22616 -0.12447 -0.22431 C -0.11388 -0.22454 -0.10121 -0.22037 -0.09114 -0.20949 C -0.08194 -0.19884 -0.07569 -0.18079 -0.07378 -0.15787 C -0.07291 -0.13472 -0.07899 -0.11319 -0.08732 -0.09931 C -0.09548 -0.08773 -0.10729 -0.08009 -0.11996 -0.08056 C -0.13316 -0.08264 -0.14461 -0.08634 -0.15399 -0.09745 C -0.16302 -0.10856 -0.16493 -0.10671 -0.17465 -0.14606 C -0.18541 -0.18194 -0.17829 -0.21458 -0.17725 -0.23495 C -0.17534 -0.25532 -0.16979 -0.27153 -0.16354 -0.29097 C -0.15694 -0.31296 -0.14635 -0.32986 -0.13715 -0.34167 C -0.12812 -0.35324 -0.11753 -0.35764 -0.10104 -0.36204 C -0.08472 -0.36366 -0.07691 -0.3625 -0.06475 -0.36042 C -0.05295 -0.35833 -0.04114 -0.35648 -0.02899 -0.3544 E">
                                      <p:cBhvr>
                                        <p:cTn id="87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0.05231 C 0.03594 0.01412 0.06702 -0.02385 0.11181 -0.02732 C 0.1566 -0.03079 0.19306 0.03356 0.27396 0.03102 C 0.35469 0.0287 0.54288 -0.0301 0.59688 -0.04213 E">
                                      <p:cBhvr>
                                        <p:cTn id="9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45 -0.01827 C -0.02084 -0.16301 -0.13195 -0.30775 -0.12657 -0.40786 C -0.12118 -0.50798 0.06319 -0.59099 0.12257 -0.61896 C 0.18194 -0.64694 0.22274 -0.60879 0.23003 -0.57619 C 0.23732 -0.54359 0.17951 -0.45341 0.16597 -0.42289 C 0.15243 -0.39237 0.15173 -0.39792 0.14895 -0.39284 E">
                                      <p:cBhvr>
                                        <p:cTn id="101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53290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лодцы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2" descr="I:\карт\1341067138_01.png"/>
          <p:cNvPicPr/>
          <p:nvPr/>
        </p:nvPicPr>
        <p:blipFill>
          <a:blip r:embed="rId2"/>
          <a:stretch/>
        </p:blipFill>
        <p:spPr>
          <a:xfrm>
            <a:off x="2700360" y="2421000"/>
            <a:ext cx="3174840" cy="320184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388360" y="6165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11412" y="3837"/>
                </a:moveTo>
                <a:lnTo>
                  <a:pt x="13988" y="6448"/>
                </a:ln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lnTo>
                  <a:pt x="18375" y="10800"/>
                </a:lnTo>
                <a:lnTo>
                  <a:pt x="16721" y="10800"/>
                </a:lnTo>
                <a:lnTo>
                  <a:pt x="16721" y="17989"/>
                </a:lnTo>
                <a:lnTo>
                  <a:pt x="6103" y="17989"/>
                </a:lnTo>
                <a:lnTo>
                  <a:pt x="6103" y="10800"/>
                </a:lnTo>
                <a:lnTo>
                  <a:pt x="4449" y="10800"/>
                </a:lnTo>
                <a:close/>
              </a:path>
              <a:path fill="darkenLess" w="22824" h="21600">
                <a:moveTo>
                  <a:pt x="13988" y="6448"/>
                </a:moveTo>
                <a:lnTo>
                  <a:pt x="13988" y="4707"/>
                </a:lnTo>
                <a:lnTo>
                  <a:pt x="15764" y="4707"/>
                </a:lnTo>
                <a:lnTo>
                  <a:pt x="15764" y="8224"/>
                </a:lnTo>
                <a:close/>
              </a:path>
              <a:path fill="darkenLess" w="22824" h="21600">
                <a:moveTo>
                  <a:pt x="10489" y="14299"/>
                </a:moveTo>
                <a:lnTo>
                  <a:pt x="12334" y="14299"/>
                </a:lnTo>
                <a:lnTo>
                  <a:pt x="12334" y="17989"/>
                </a:lnTo>
                <a:lnTo>
                  <a:pt x="16721" y="17989"/>
                </a:lnTo>
                <a:lnTo>
                  <a:pt x="16721" y="10800"/>
                </a:lnTo>
                <a:lnTo>
                  <a:pt x="6103" y="10800"/>
                </a:lnTo>
                <a:lnTo>
                  <a:pt x="6103" y="17989"/>
                </a:lnTo>
                <a:lnTo>
                  <a:pt x="10489" y="17989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745"/>
                            </p:stCondLst>
                            <p:childTnLst>
                              <p:par>
                                <p:cTn id="1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Электронные  ресурсы: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50920" y="126828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бль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aledremov/album/142339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оступа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s://fotki.yandex.ru/users/elena-soloveika/album/432663/?p=8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250920" y="4005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333v.ru/image/6867eb2b05fa8e1277c2a8927a03e98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50920" y="2781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уковые файлы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ый ресур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 Режим доступа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muzofon.com/search/%D0%B3%D1%83%D0%B4%D0%BE%D0%BA+%D0%BF%D0%B0%D1%80%D0%BE%D1%85%D0%BE%D0%B4%D0%B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дата обращения: 17.04.1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21:15Z</dcterms:created>
  <dc:creator>Lyn</dc:creator>
  <dc:description/>
  <dc:language>en-US</dc:language>
  <cp:lastModifiedBy>XTI</cp:lastModifiedBy>
  <dcterms:modified xsi:type="dcterms:W3CDTF">2019-11-17T18:43:14Z</dcterms:modified>
  <cp:revision>92</cp:revision>
  <dc:subject/>
  <dc:title>Слайд 1</dc:title>
</cp:coreProperties>
</file>